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2BC3-7E9E-4F26-9CCE-EC0377D9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7FA4-D87A-4F49-B7A9-57DAEBCA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25E-1314-4AC2-83C9-E5870262E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F89-EAF6-4062-A4F5-826301751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25E1-4469-47DE-87D0-158C72A7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70C-AE1C-45E1-A87B-09721227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D2D-6B87-45FF-A241-04C50660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47C-F8DA-4F8A-9240-4806A5BF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40A-0C3A-4695-A42E-503615F8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0B93-C8B9-4AD3-8914-500AF528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8A0-F439-4482-A4D4-BDDD2FF9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6FF-4E68-479C-9C23-92056487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35F9-9B87-435C-96CC-F114975049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3101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781280" y="2685960"/>
            <a:ext cx="3506760" cy="1087560"/>
          </a:xfrm>
          <a:custGeom>
            <a:avLst/>
            <a:gdLst/>
            <a:ahLst/>
            <a:rect l="l" t="t" r="r" b="b"/>
            <a:pathLst>
              <a:path w="2209" h="685">
                <a:moveTo>
                  <a:pt x="2208" y="342"/>
                </a:moveTo>
                <a:lnTo>
                  <a:pt x="1104" y="684"/>
                </a:lnTo>
                <a:lnTo>
                  <a:pt x="0" y="342"/>
                </a:lnTo>
                <a:lnTo>
                  <a:pt x="1104" y="0"/>
                </a:lnTo>
                <a:lnTo>
                  <a:pt x="2208" y="34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514680" y="271440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3228840"/>
            <a:ext cx="343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143240" y="2857680"/>
            <a:ext cx="1047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81360" y="2828880"/>
            <a:ext cx="9504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828880" y="3514320"/>
            <a:ext cx="95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19400" y="3543480"/>
            <a:ext cx="11448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0720" y="2822400"/>
            <a:ext cx="67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70080" y="3298680"/>
            <a:ext cx="6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65360" y="2955960"/>
            <a:ext cx="6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70360" y="2946240"/>
            <a:ext cx="6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71640" y="2138400"/>
            <a:ext cx="308592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7920" y="29275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= 48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0" y="3651120"/>
            <a:ext cx="1460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43320" y="2647800"/>
            <a:ext cx="1706400" cy="1068480"/>
          </a:xfrm>
          <a:custGeom>
            <a:avLst/>
            <a:gdLst/>
            <a:ahLst/>
            <a:rect l="l" t="t" r="r" b="b"/>
            <a:pathLst>
              <a:path w="1075" h="673">
                <a:moveTo>
                  <a:pt x="0" y="0"/>
                </a:moveTo>
                <a:lnTo>
                  <a:pt x="1074" y="0"/>
                </a:lnTo>
                <a:lnTo>
                  <a:pt x="1074" y="672"/>
                </a:lnTo>
                <a:lnTo>
                  <a:pt x="0" y="67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s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38360" y="3095640"/>
            <a:ext cx="801720" cy="801720"/>
          </a:xfrm>
          <a:custGeom>
            <a:avLst/>
            <a:gdLst/>
            <a:ahLst/>
            <a:rect l="l" t="t" r="r" b="b"/>
            <a:pathLst>
              <a:path w="505" h="505">
                <a:moveTo>
                  <a:pt x="0" y="0"/>
                </a:moveTo>
                <a:lnTo>
                  <a:pt x="504" y="0"/>
                </a:lnTo>
                <a:lnTo>
                  <a:pt x="504" y="504"/>
                </a:lnTo>
                <a:lnTo>
                  <a:pt x="0" y="50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24160" y="3476520"/>
            <a:ext cx="19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19240" y="2952720"/>
            <a:ext cx="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47920" y="3486240"/>
            <a:ext cx="26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90800" y="3790800"/>
            <a:ext cx="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94120" y="2975040"/>
            <a:ext cx="271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= 81cm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b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647720" y="2581200"/>
            <a:ext cx="2297160" cy="925560"/>
          </a:xfrm>
          <a:custGeom>
            <a:avLst/>
            <a:gdLst/>
            <a:ahLst/>
            <a:rect l="l" t="t" r="r" b="b"/>
            <a:pathLst>
              <a:path w="1447" h="583">
                <a:moveTo>
                  <a:pt x="0" y="582"/>
                </a:moveTo>
                <a:lnTo>
                  <a:pt x="325" y="0"/>
                </a:lnTo>
                <a:lnTo>
                  <a:pt x="1446" y="0"/>
                </a:lnTo>
                <a:lnTo>
                  <a:pt x="1121" y="582"/>
                </a:lnTo>
                <a:lnTo>
                  <a:pt x="0" y="58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47840" y="25812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9240" y="2822400"/>
            <a:ext cx="8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03720" y="2565360"/>
            <a:ext cx="271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= 72cm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h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2352600"/>
            <a:ext cx="2278080" cy="925560"/>
          </a:xfrm>
          <a:custGeom>
            <a:avLst/>
            <a:gdLst/>
            <a:ahLst/>
            <a:rect l="l" t="t" r="r" b="b"/>
            <a:pathLst>
              <a:path w="1435" h="583">
                <a:moveTo>
                  <a:pt x="1434" y="581"/>
                </a:moveTo>
                <a:lnTo>
                  <a:pt x="0" y="582"/>
                </a:lnTo>
                <a:lnTo>
                  <a:pt x="717" y="0"/>
                </a:lnTo>
                <a:lnTo>
                  <a:pt x="1434" y="58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3200" y="2352600"/>
            <a:ext cx="0" cy="9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114720"/>
            <a:ext cx="13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76400" y="3114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79560" y="3670200"/>
            <a:ext cx="13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70320" y="23274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= 40f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h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67000" y="2381400"/>
            <a:ext cx="2678040" cy="1106280"/>
          </a:xfrm>
          <a:custGeom>
            <a:avLst/>
            <a:gdLst/>
            <a:ahLst/>
            <a:rect l="l" t="t" r="r" b="b"/>
            <a:pathLst>
              <a:path w="1687" h="697">
                <a:moveTo>
                  <a:pt x="0" y="696"/>
                </a:moveTo>
                <a:lnTo>
                  <a:pt x="337" y="0"/>
                </a:lnTo>
                <a:lnTo>
                  <a:pt x="1349" y="0"/>
                </a:lnTo>
                <a:lnTo>
                  <a:pt x="1686" y="696"/>
                </a:lnTo>
                <a:lnTo>
                  <a:pt x="0" y="69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33760" y="2381400"/>
            <a:ext cx="0" cy="109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51080" y="3622680"/>
            <a:ext cx="147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5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4280" y="1860480"/>
            <a:ext cx="147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1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08480" y="2403360"/>
            <a:ext cx="24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= 39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7520" y="241200"/>
            <a:ext cx="6794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What is the area of the rectang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What is the area of the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What is the area of the shaded reg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71640" y="2095560"/>
            <a:ext cx="291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2405160"/>
            <a:ext cx="1709640" cy="1709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9360" y="260280"/>
            <a:ext cx="6794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What is the area of the triang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What is the area of the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What is the area of the shaded reg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2840" y="2538360"/>
            <a:ext cx="2441880" cy="2335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93680" y="345960"/>
            <a:ext cx="6794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What is the area of the large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What is the area of the small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What is the area of the shaded reg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640" y="3143160"/>
            <a:ext cx="2554200" cy="868320"/>
          </a:xfrm>
          <a:custGeom>
            <a:avLst/>
            <a:gdLst/>
            <a:ahLst/>
            <a:rect l="l" t="t" r="r" b="b"/>
            <a:pathLst>
              <a:path w="1609" h="547">
                <a:moveTo>
                  <a:pt x="0" y="0"/>
                </a:moveTo>
                <a:lnTo>
                  <a:pt x="1608" y="0"/>
                </a:lnTo>
                <a:lnTo>
                  <a:pt x="1608" y="546"/>
                </a:lnTo>
                <a:lnTo>
                  <a:pt x="0" y="546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22360" y="41655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51320" y="3327480"/>
            <a:ext cx="11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241200"/>
            <a:ext cx="740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are the sha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area of the triang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 of the rect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 What is the overall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90840" y="3457440"/>
            <a:ext cx="1839600" cy="639720"/>
          </a:xfrm>
          <a:custGeom>
            <a:avLst/>
            <a:gdLst/>
            <a:ahLst/>
            <a:rect l="l" t="t" r="r" b="b"/>
            <a:pathLst>
              <a:path w="1159" h="403">
                <a:moveTo>
                  <a:pt x="0" y="0"/>
                </a:moveTo>
                <a:lnTo>
                  <a:pt x="1158" y="0"/>
                </a:lnTo>
                <a:lnTo>
                  <a:pt x="1158" y="402"/>
                </a:lnTo>
                <a:lnTo>
                  <a:pt x="0" y="40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581120" y="2695680"/>
            <a:ext cx="15145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95640" y="2695680"/>
            <a:ext cx="324000" cy="75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76560" y="2695680"/>
            <a:ext cx="0" cy="75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943360" y="333360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943360" y="3333600"/>
            <a:ext cx="0" cy="1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13120" y="409896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13160" y="3594240"/>
            <a:ext cx="7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36920" y="2927520"/>
            <a:ext cx="7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5760" y="2733840"/>
            <a:ext cx="982800" cy="98244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0" y="0"/>
                </a:moveTo>
                <a:lnTo>
                  <a:pt x="618" y="0"/>
                </a:lnTo>
                <a:lnTo>
                  <a:pt x="618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3162240"/>
            <a:ext cx="29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62040" y="2571840"/>
            <a:ext cx="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85960" y="323856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2960" y="3629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70160" y="294624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90560" y="2790720"/>
            <a:ext cx="3516480" cy="925560"/>
          </a:xfrm>
          <a:custGeom>
            <a:avLst/>
            <a:gdLst/>
            <a:ahLst/>
            <a:rect l="l" t="t" r="r" b="b"/>
            <a:pathLst>
              <a:path w="2215" h="583">
                <a:moveTo>
                  <a:pt x="0" y="582"/>
                </a:moveTo>
                <a:lnTo>
                  <a:pt x="498" y="0"/>
                </a:lnTo>
                <a:lnTo>
                  <a:pt x="2214" y="0"/>
                </a:lnTo>
                <a:lnTo>
                  <a:pt x="1716" y="582"/>
                </a:lnTo>
                <a:lnTo>
                  <a:pt x="0" y="58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2905200"/>
            <a:ext cx="243828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714840" y="3086280"/>
            <a:ext cx="9504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3086280"/>
            <a:ext cx="200160" cy="1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79880" y="300348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08040" y="3746520"/>
            <a:ext cx="13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94040" y="2994120"/>
            <a:ext cx="927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4f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85920" y="2438280"/>
            <a:ext cx="2887560" cy="1535400"/>
          </a:xfrm>
          <a:custGeom>
            <a:avLst/>
            <a:gdLst/>
            <a:ahLst/>
            <a:rect l="l" t="t" r="r" b="b"/>
            <a:pathLst>
              <a:path w="1819" h="967">
                <a:moveTo>
                  <a:pt x="1818" y="965"/>
                </a:moveTo>
                <a:lnTo>
                  <a:pt x="0" y="966"/>
                </a:lnTo>
                <a:lnTo>
                  <a:pt x="910" y="0"/>
                </a:lnTo>
                <a:lnTo>
                  <a:pt x="1818" y="965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14760" y="2438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14760" y="376236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76236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3840" y="418464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46320" y="3203640"/>
            <a:ext cx="831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y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3009960"/>
            <a:ext cx="2868480" cy="887400"/>
          </a:xfrm>
          <a:custGeom>
            <a:avLst/>
            <a:gdLst/>
            <a:ahLst/>
            <a:rect l="l" t="t" r="r" b="b"/>
            <a:pathLst>
              <a:path w="1807" h="559">
                <a:moveTo>
                  <a:pt x="0" y="0"/>
                </a:moveTo>
                <a:lnTo>
                  <a:pt x="1806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09600" y="3762360"/>
            <a:ext cx="16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3762360"/>
            <a:ext cx="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41560" y="39560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8400" y="3260880"/>
            <a:ext cx="81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f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14520" y="3095640"/>
            <a:ext cx="2239920" cy="1287360"/>
          </a:xfrm>
          <a:custGeom>
            <a:avLst/>
            <a:gdLst/>
            <a:ahLst/>
            <a:rect l="l" t="t" r="r" b="b"/>
            <a:pathLst>
              <a:path w="1411" h="811">
                <a:moveTo>
                  <a:pt x="0" y="810"/>
                </a:moveTo>
                <a:lnTo>
                  <a:pt x="282" y="0"/>
                </a:lnTo>
                <a:lnTo>
                  <a:pt x="1128" y="0"/>
                </a:lnTo>
                <a:lnTo>
                  <a:pt x="1410" y="810"/>
                </a:lnTo>
                <a:lnTo>
                  <a:pt x="0" y="81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362320" y="3095640"/>
            <a:ext cx="8568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417204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43040" y="4172040"/>
            <a:ext cx="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27400" y="25272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74960" y="4584600"/>
            <a:ext cx="13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70320" y="341316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17520" y="241200"/>
            <a:ext cx="637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area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43160" y="2552760"/>
            <a:ext cx="1933560" cy="19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66920" y="3057120"/>
            <a:ext cx="857160" cy="4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22640" y="2717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0440" y="1908000"/>
            <a:ext cx="311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und to the nearest ten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17520" y="241200"/>
            <a:ext cx="7670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. What is the circumfence formul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. What is the circumferen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43160" y="2552760"/>
            <a:ext cx="1933560" cy="19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266920" y="3057120"/>
            <a:ext cx="857160" cy="4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22640" y="2717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8120" y="1822320"/>
            <a:ext cx="31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und to the nearest ten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8:03:12Z</dcterms:created>
  <dc:creator>udsd</dc:creator>
  <dc:description/>
  <dc:language>en-US</dc:language>
  <cp:lastModifiedBy>udsd</cp:lastModifiedBy>
  <dcterms:modified xsi:type="dcterms:W3CDTF">2009-03-10T18:03:14Z</dcterms:modified>
  <cp:revision>1</cp:revision>
  <dc:subject/>
  <dc:title>Slide 1</dc:title>
</cp:coreProperties>
</file>